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2DB0-41A2-49EC-BEC0-AC2362E63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5CCE-D45E-4B88-9E61-6F939ACB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8E15-9266-4F18-9124-E6CEE5F91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23F5-35E5-4B34-B98C-1D7FE2DD4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70EC-326D-42B0-914D-BF160E986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75C3-833F-4508-BE2E-E44CA102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2EAF-7C64-48D3-B202-60E9070D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0C87-29A3-48F3-B85C-7FFA66B6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FD0E-B3FD-4BC9-8D94-A58A68E6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87D3-224A-4CA4-9139-A486C4DA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F7F5-6023-473F-B974-EC588264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41D2-41CB-4077-8251-0BF4283E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7889-BA18-421C-B485-D363459D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EC82-3011-4C68-A601-3EA188A0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0F16-29DD-4805-AA27-08678EAF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FF66-295A-496E-9C24-0877D4B44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9A02-2899-4877-AA03-C4AECA53D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F20FC-0C3D-41F3-AFE9-AA9F02659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56B86-0F68-4F8F-AF45-FEEA1AD3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3F2F0-6C85-42DC-B4CA-1D9AB8FC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B764E-6B17-4126-8A3A-5A5D08D6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CB45A-AAE9-4911-A782-7497A236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92B5-C675-4816-B7AB-899A5C8E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BC9A0-F7EA-401F-9EF2-52587A57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DF695-D921-44CE-BE4F-E16A58DF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91371-7AC1-45EE-8E6B-5265127F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1C49C-7596-4A6E-B51A-CD1E761E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3C136-CBAD-486E-B86F-AB81EEA7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1C884-6954-4CC6-9492-3F1D9D055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E6DBA-FE77-4055-A428-8E831F1D2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A5EB7-00BB-4F27-A0FA-A3653FE28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1DCCF-A96F-4C2A-B9C1-D03B73F9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A84DE-90B8-43FB-B4DE-28D992A0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3BCF-FAE2-48E8-A2D6-CEE74195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DF65F-8703-4EE1-8B0E-8ECB944B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E149A-2F66-42AB-BF8C-730CDD82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CE1D9-14E9-4636-805E-C19FD4C6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7E77B-C8D7-4E67-83D5-F0AFF9FD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5387F-E7F6-4A07-97A1-BF637B3C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3483F-3A93-4931-8C82-16B2858C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554B6-3459-4FB6-AF6D-D486760B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E7489-E92D-455B-BC56-DE96AF843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66DD5-7A90-464C-9E93-86683791B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57AB-3F0C-41B4-A163-D2A8E76E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2372-41E9-435C-BB86-12D9D227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4297-255D-49C2-B1F3-7F8B707B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7DA8-8A5B-45F0-BC2F-7F55418F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9E59-F68C-4087-82C3-C74684FA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a liv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orma liv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838E-0CE5-4FC5-BE6E-01E1289663F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a liv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orma livre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a liv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orma liv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u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a liv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orma livre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98C5-CAC2-4E90-BECF-7373EFE9192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a liv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orma liv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u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a liv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orma livre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FF72-6EB1-46A8-8965-194AF1C0A96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tângulo com Único Canto Aparado e Arredondado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Triângulo retângulo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orma livre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orma livre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A287-E050-44AA-A846-B5A79CFAC7A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ítulo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6144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99680" y="450072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ffffff"/>
                </a:solidFill>
                <a:latin typeface="Constantia"/>
              </a:rPr>
              <a:t>Aluno: Gustavo Henrique Brag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ffffff"/>
                </a:solidFill>
                <a:latin typeface="Constantia"/>
              </a:rPr>
              <a:t>Orientador: Valdermar W. Setz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Estado Atu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Console de linha de comando para controle fino de cada aspecto do program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Demonstração das técnicas de recuperação de erro (com e sem sucesso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Auxílios visuais (identação automática, coloração) para códig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Mais Desenvolviment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Implementação adaptadores (de entrada e saída) para permitir que o interpretador seja controlado por um programa externo, e que diferentes tipos de saída possam ser gerados (ex: uma planilha, um gráfico 3D, uma seqüência de sons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Mais controle sobre as políticas de validação de gramátic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Modo </a:t>
            </a: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Debug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Depuração visual da gramátic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Mais flexibilidade para Impl. de novos analisado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Terminando..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A última versão pode ser encontrada em: </a:t>
            </a:r>
            <a:br>
              <a:rPr sz="2600"/>
            </a:br>
            <a:br>
              <a:rPr sz="2600"/>
            </a:b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linux.ime.usp.br/~henrick/mac499/dev-ggas.zi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E o manual, documentação...</a:t>
            </a:r>
            <a:br>
              <a:rPr sz="2600"/>
            </a:br>
            <a:br>
              <a:rPr sz="2600"/>
            </a:b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linux.ime.usp.br/~henrick/mac499/manual.html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Visão Ger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Analisadores Sintáticos, juntamente com analisadores léxicos são componentes fundamentais dos compilado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Sistema permite a criação e manipulação de representações visuais de gramáticas livres de contex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Estas representações, juntamente com definições adicionais, são convertidas em tabel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Estas tabelas, mais um interpretador genérico, são usadas para compor um analisador sintático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Motivaçõ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Prover uma ferramenta gráfica flexível e de uso intuitivo para a criação e depuração de compilado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Disponibilizar uma alternativa em software livre para os analisadores sintáticos mais comu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Oferecer um sistema útil para fins didáticos e para criação dinâmica de protótipo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Permitir a implementação e integração de analisadores sintáticos adicionai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Analisador Sintát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Fundamenta-se num analisador </a:t>
            </a: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top-down 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que aceita uma subclasse das gramáticas LL(1) </a:t>
            </a: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(ESLL(1)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Abordagem </a:t>
            </a: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top-down 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possibilita um entendimento intuitivo do processo de análise sintática e do grafo sintátic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É fácil acompanhar as pilhas sintáticas e semântic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Detecção de erros da gramática direta e eficaz, além facilidade de correçã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Especificação de rotinas semânticas em qualquer ponto de um lado direito de uma produçã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Siste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Uma versão preliminar foi parcialmente desenvolvida como um </a:t>
            </a: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plugin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 para plataforma eclipse (Luiz Fernando dos Santos Pereira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Queríamos um sistema totalmente autônomo, embora o esquema de </a:t>
            </a: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docking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 tenha funcionado tão bem : -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Desenvolvido em java, uma preocupação era manter o código “civilizado”, atentando para padrões de O.O. bem conhecidos e MV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Siste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Reaproveitamento de código aberto disponível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2" descr="http://www.jedit.org/images/logo64.png"/>
          <p:cNvPicPr/>
          <p:nvPr/>
        </p:nvPicPr>
        <p:blipFill>
          <a:blip r:embed="rId1"/>
          <a:stretch/>
        </p:blipFill>
        <p:spPr>
          <a:xfrm>
            <a:off x="857160" y="264312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http://1.bp.blogspot.com/_G0-jzqyHnQo/SnhJB4V3pII/AAAAAAAAAPo/Kkd2uFBqrzY/s400/netbeans_logo_ok-300x150.jpg"/>
          <p:cNvPicPr/>
          <p:nvPr/>
        </p:nvPicPr>
        <p:blipFill>
          <a:blip r:embed="rId2"/>
          <a:stretch/>
        </p:blipFill>
        <p:spPr>
          <a:xfrm>
            <a:off x="1857240" y="2571840"/>
            <a:ext cx="1214640" cy="6681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http://www.beanshell.org/images/beany2-200.jpg"/>
          <p:cNvPicPr/>
          <p:nvPr/>
        </p:nvPicPr>
        <p:blipFill>
          <a:blip r:embed="rId3"/>
          <a:stretch/>
        </p:blipFill>
        <p:spPr>
          <a:xfrm>
            <a:off x="3357720" y="2500200"/>
            <a:ext cx="714240" cy="868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http://htmlparser.sourceforge.net/images/htmlparserlogo.jpg"/>
          <p:cNvPicPr/>
          <p:nvPr/>
        </p:nvPicPr>
        <p:blipFill>
          <a:blip r:embed="rId4"/>
          <a:stretch/>
        </p:blipFill>
        <p:spPr>
          <a:xfrm>
            <a:off x="4357800" y="2571840"/>
            <a:ext cx="765000" cy="642960"/>
          </a:xfrm>
          <a:prstGeom prst="rect">
            <a:avLst/>
          </a:prstGeom>
          <a:ln w="0">
            <a:noFill/>
          </a:ln>
        </p:spPr>
      </p:pic>
      <p:sp>
        <p:nvSpPr>
          <p:cNvPr id="211" name="CaixaDeTexto 7"/>
          <p:cNvSpPr/>
          <p:nvPr/>
        </p:nvSpPr>
        <p:spPr>
          <a:xfrm>
            <a:off x="5608440" y="271476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nstantia"/>
              </a:rPr>
              <a:t>E outros..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Siste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Espaço Reservado para Conteúdo 5" descr="srB2.png"/>
          <p:cNvPicPr/>
          <p:nvPr/>
        </p:nvPicPr>
        <p:blipFill>
          <a:blip r:embed="rId1"/>
          <a:stretch/>
        </p:blipFill>
        <p:spPr>
          <a:xfrm>
            <a:off x="355680" y="1785960"/>
            <a:ext cx="8574120" cy="4922640"/>
          </a:xfrm>
          <a:prstGeom prst="rect">
            <a:avLst/>
          </a:prstGeom>
          <a:ln w="0">
            <a:noFill/>
          </a:ln>
        </p:spPr>
      </p:pic>
      <p:sp>
        <p:nvSpPr>
          <p:cNvPr id="214" name="Texto Explicativo 2 3"/>
          <p:cNvSpPr/>
          <p:nvPr/>
        </p:nvSpPr>
        <p:spPr>
          <a:xfrm>
            <a:off x="2786040" y="2928960"/>
            <a:ext cx="1714680" cy="1357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75754"/>
              <a:gd name="adj6" fmla="val -63291"/>
            </a:avLst>
          </a:prstGeom>
          <a:solidFill>
            <a:srgbClr val="009dd9">
              <a:alpha val="43000"/>
            </a:srgbClr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4617b"/>
                </a:solidFill>
                <a:latin typeface="Constantia"/>
              </a:rPr>
              <a:t>Área de desenho, com caixa de ferramenta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Texto Explicativo 2 4"/>
          <p:cNvSpPr/>
          <p:nvPr/>
        </p:nvSpPr>
        <p:spPr>
          <a:xfrm>
            <a:off x="5500800" y="2928960"/>
            <a:ext cx="1714320" cy="928800"/>
          </a:xfrm>
          <a:prstGeom prst="borderCallout2">
            <a:avLst>
              <a:gd name="adj1" fmla="val 18750"/>
              <a:gd name="adj2" fmla="val -8333"/>
              <a:gd name="adj3" fmla="val 37930"/>
              <a:gd name="adj4" fmla="val 136407"/>
              <a:gd name="adj5" fmla="val 152476"/>
              <a:gd name="adj6" fmla="val 162509"/>
            </a:avLst>
          </a:prstGeom>
          <a:solidFill>
            <a:srgbClr val="009dd9">
              <a:alpha val="43000"/>
            </a:srgbClr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4617b"/>
                </a:solidFill>
                <a:latin typeface="Constantia"/>
              </a:rPr>
              <a:t>Arquivos do projeto </a:t>
            </a:r>
            <a:r>
              <a:rPr b="0" i="1" lang="pt-BR" sz="1800" spc="-1" strike="noStrike">
                <a:solidFill>
                  <a:srgbClr val="04617b"/>
                </a:solidFill>
                <a:latin typeface="Constantia"/>
              </a:rPr>
              <a:t>(sem, gram, lex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Siste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Espaço Reservado para Conteúdo 3" descr="srB3.png"/>
          <p:cNvPicPr/>
          <p:nvPr/>
        </p:nvPicPr>
        <p:blipFill>
          <a:blip r:embed="rId1"/>
          <a:stretch/>
        </p:blipFill>
        <p:spPr>
          <a:xfrm>
            <a:off x="214200" y="1785960"/>
            <a:ext cx="8643960" cy="4956120"/>
          </a:xfrm>
          <a:prstGeom prst="rect">
            <a:avLst/>
          </a:prstGeom>
          <a:ln w="0">
            <a:noFill/>
          </a:ln>
        </p:spPr>
      </p:pic>
      <p:sp>
        <p:nvSpPr>
          <p:cNvPr id="218" name="Texto Explicativo 2 4"/>
          <p:cNvSpPr/>
          <p:nvPr/>
        </p:nvSpPr>
        <p:spPr>
          <a:xfrm>
            <a:off x="6929280" y="1357200"/>
            <a:ext cx="1714680" cy="7858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98162"/>
              <a:gd name="adj6" fmla="val -39740"/>
            </a:avLst>
          </a:prstGeom>
          <a:solidFill>
            <a:srgbClr val="009dd9">
              <a:alpha val="43000"/>
            </a:srgbClr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4617b"/>
                </a:solidFill>
                <a:latin typeface="Constantia"/>
              </a:rPr>
              <a:t>Editor de rotinas semântica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Texto Explicativo 2 5"/>
          <p:cNvSpPr/>
          <p:nvPr/>
        </p:nvSpPr>
        <p:spPr>
          <a:xfrm>
            <a:off x="6215040" y="4071960"/>
            <a:ext cx="1714680" cy="7858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70958"/>
              <a:gd name="adj6" fmla="val -35583"/>
            </a:avLst>
          </a:prstGeom>
          <a:solidFill>
            <a:srgbClr val="009dd9">
              <a:alpha val="43000"/>
            </a:srgbClr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4617b"/>
                </a:solidFill>
                <a:latin typeface="Constantia"/>
              </a:rPr>
              <a:t>Tabela do analisad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Texto Explicativo 2 6"/>
          <p:cNvSpPr/>
          <p:nvPr/>
        </p:nvSpPr>
        <p:spPr>
          <a:xfrm>
            <a:off x="3286080" y="5929200"/>
            <a:ext cx="2786040" cy="7146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48162"/>
              <a:gd name="adj6" fmla="val -44537"/>
            </a:avLst>
          </a:prstGeom>
          <a:solidFill>
            <a:srgbClr val="009dd9">
              <a:alpha val="43000"/>
            </a:srgbClr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4617b"/>
                </a:solidFill>
                <a:latin typeface="Constantia"/>
              </a:rPr>
              <a:t>Rastreamento das pilhas sintática e semântic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Texto Explicativo 2 7"/>
          <p:cNvSpPr/>
          <p:nvPr/>
        </p:nvSpPr>
        <p:spPr>
          <a:xfrm>
            <a:off x="7143840" y="5929200"/>
            <a:ext cx="1714320" cy="5000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53560"/>
              <a:gd name="adj6" fmla="val -31425"/>
            </a:avLst>
          </a:prstGeom>
          <a:solidFill>
            <a:srgbClr val="009dd9">
              <a:alpha val="43000"/>
            </a:srgbClr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4617b"/>
                </a:solidFill>
                <a:latin typeface="Constantia"/>
              </a:rPr>
              <a:t>Interpretad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Estado Atu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Gerenciamento de Projet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Geração de códig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Especificação e modificação em </a:t>
            </a: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runtime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 de rotinas semânticas associadas aos lados direitos das produçõ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Configuração das especificações para o analisador léxico (Yylex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Impressão de pilhas sintática e semântic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Rastreamento dos toke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01:52:11Z</dcterms:created>
  <dc:creator>Gustavo</dc:creator>
  <dc:description/>
  <dc:language>en-US</dc:language>
  <cp:lastModifiedBy>Gustavo</cp:lastModifiedBy>
  <dcterms:modified xsi:type="dcterms:W3CDTF">2009-11-17T15:23:10Z</dcterms:modified>
  <cp:revision>22</cp:revision>
  <dc:subject/>
  <dc:title>Slide 1</dc:title>
</cp:coreProperties>
</file>