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EE01-415D-441F-8B6F-FD231FDDE9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artigo recente é de Timo Knuutil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154-C73B-4034-9CF7-26CFF553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E6A-CFF8-491D-A14C-BA6B492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2B3-A17B-4532-ABA8-91FA4EDC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6E8-6685-422A-9EF4-CA7BE17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267-9943-4821-9F9F-2D1A45B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216-73E6-4FEC-8F27-0434FDF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A6B-5249-4761-AEE8-84ABED7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A51-A28C-4BA1-99A4-B74B06E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0FD-0011-4AA5-B2C8-2E40810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274-91B3-4AFE-91B1-7C0F4A46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A30-A53C-406D-9D33-333F5D7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E0D-E6B6-4857-A6CD-B96D80F3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111-E969-4FB6-BD08-00E62613CA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499 – Trabalho de Formatura Supervisionado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E-USP – BCC, 2001 – Prof. responsável: Carlos Eduardo Ferreira</a:t>
            </a:r>
            <a:br>
              <a:rPr sz="20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 Iniciação Científi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ômatos Finitos: Algoritmos e Estrutura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no: Leo Kazuhiro 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ora: Nami 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e faz de fato o algoritmo s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log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 ordem em que são feitas as divisões, e essa é principal característica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 complexidade de tempo depende de uma implementação eficiente de algumas estruturas de dados (listas ligadas e conjun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gasto com as estruturas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Rev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aplicado em autômatos acíc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plexidade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n) de tempo e espaç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autômato acíclico é um autômato cujo grafo é acíc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tômatos acíclicos são muito usados para representar dicionários e manipular funções boole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mente é calculada uma partiçã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... , onde um estado pertence ao bloc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se a sua altura é i. A figura ilustra essa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v-alturas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438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dé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nomear cada estado de um bloco de acordo com as suas transições, de forma que um estado é equivalente a outro sse têm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seguida ordenamos os nomes de cada bloco para encontrarmos os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v-ex1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32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ordenação deve ser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ordenação proposta por Revuz é semelhante ao radix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ém disso, os nomes dados aos estados não podem ser muito grandes (têm que ser de alguma forma lineares també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 problema de busca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udamos também a aplicação de Autômatos Finitos num caso de busca de padrões nu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 um dicionário K com palavras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 texto x, também uma palavra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saber quais palavras de K ocorrem em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Alfred Aho e Margaret Corasick constrói um autômato que reconhece a linguag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busca de x nesse autômato consome tempo linear no tamanho de x, ou seja, independe de 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para K = {he, she, hers, his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c-aut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00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mpo de construção do autômato pode ser linear no tamanho d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também pode ser linear em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as complexidades de tempo e espaço dependem muito da implementação. Em geral é feita uma troca de espaço por tempo ou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utiliza as mesmas idéias do algoritmo K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mos os três algoritm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das implementações era apenas compreender melhor os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ou discussões interes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 praticament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ão muito concr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 que esse t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nal de 2000 estava procurando por um projeto de iniciação cient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s assuntos aparentemente interessantes e pouco conhecimento sobre eles: in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a. Nami ofereceu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squisei vários projetos em Autômatos, mas continuei com o mesm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mos então est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experiência foi positiva, aprendi ba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a de trabalho com a orientadora foi uma novidade interess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isciplinas que eu apliquei diretamente neste trabalho fo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ôma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e de Algoritmos e Geometria Computacional, para a parte de análise de algorit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isciplinas básicas e de programação, como ED, Lab1 e 2, POO, Concorrente, 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j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adquirir mais conhecimentos fundamentais da Teoria de Autômatos Finitos para poder futuramente estudar aplicações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é agora estud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de Minimização de Autômatos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Revuz para autômatos acíc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num problema de busca d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Aho-Coras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ouco de Autômato dos Su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ó lembran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utômato é uma quíntup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conjunto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 o alfabeto (conjunto de símbo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a função de tran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conjunto dos estado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mos que n é o número de estados do autômato (n = 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197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 Hopcr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 novo algoritmo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rtigo original era muito complicado, entã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vid G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a descrição mais clara (com uma pequena modifica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outro artigo recente afirma que, ao contrário do que todos acreditam,  a versão de Hopcroft não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blema que queremos resolver é minimizar o número de estados de um autômato finito determiní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outras palavras, dado um autômato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encontrar o autômato minimal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o menor número de estados e tal que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=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os já devem ter visto um algoritmo básico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(ou pior) no curso de Autômatos. A idéia dos dois algoritmos apresentados aqui é pare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déia bá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três algoritmos de minimização procuram pelas classes de equivalência 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lasses de equivalência representam estados no autômato min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lasses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284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lgoritmo começa com uma parti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do apenas dois blo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op-ex1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14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peração de di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seguida, os blocos da partição são divididos de forma que, no final, cada bloco represente uma classe de equival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 de divisão d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 relação a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p-ex2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9:11Z</dcterms:created>
  <dc:creator>Leo Kazuhiro Ueda</dc:creator>
  <dc:description>Apresentação de MAC 499</dc:description>
  <dc:language>en-US</dc:language>
  <cp:lastModifiedBy>Leo Kazuhiro Ueda</cp:lastModifiedBy>
  <dcterms:modified xsi:type="dcterms:W3CDTF">2001-12-06T09:29:25Z</dcterms:modified>
  <cp:revision>25</cp:revision>
  <dc:subject/>
  <dc:title>MAC 499 – Trabalho de Formatura Supervisionado IME-USP – BCC, 2001 – Prof. responsável: Carlos Eduardo Ferreira  Projeto de Iniciação Científica Autômatos Finitos: Algoritmos e Estruturas de Dados</dc:title>
</cp:coreProperties>
</file>