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5FD1-8B3A-493F-98C7-6239C7E5CBE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apresentação é de apenas 15 minutos. Está tudo muito por cima, dos algoritmos não dá pra entender nad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 artigo recente é de Timo Knuutila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3B7D-8D2C-441B-A003-B6BC763EC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966F-ECB7-4A6C-84CA-C56C9388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2061-0F24-402D-942D-6C66A9F00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A817-C9B3-4BDF-A5B2-28CE38E4A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9867-7203-4770-801C-59A97BB3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4AC6-08A5-49DF-9AD1-6E52329F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3E73-ECD2-47D1-B7A4-D3FEFED7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CD3C-9C81-4902-ADB6-A2267C4A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5357-8D44-40DA-9220-9B5CF894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FCF3-E3D5-4157-BD90-66C782CB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B4A1-0D60-4DB2-8C0B-8F8F16C1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3202-3FA0-486A-8DE1-D89EEF3F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FDED-6D58-447D-B53B-233274D9C0B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 499 – Trabalho de Formatura Supervisionado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E-USP – BCC, 2001 – Prof. responsável: Carlos Eduardo Ferreira</a:t>
            </a:r>
            <a:br>
              <a:rPr sz="2000"/>
            </a:b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to de Iniciação Científic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ômatos Finitos: Algoritmos e Estruturas de D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lsa PIBIC/CNPq – março/2001 a fevereiro/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uno: Leo Kazuhiro Ue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ervisora e Orientadora: Nami Kobayas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pcroft – Observaçõ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que faz de fato o algoritmo s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log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é a ordem em que são feitas as divisões, e essa é principal característica do algorit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sa complexidade de tempo depende de uma implementação eficiente de algumas estruturas de dados (listas ligadas e conjun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espaço gasto com as estruturas é O(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goritmo de Revu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É aplicado em autômatos acícl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em complexidade O(|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|n) de tempo e espaço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m autômato acíclico é um autômato cujo grafo é acícl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utômatos acíclicos são muito usados para representar dicionários e manipular funções boole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vuz – Iníc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nicialmente é calculada uma partição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... , onde um estado pertence ao bloco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sse a sua altura é i. A figura ilustra essa situaç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rev-alturas" descr=""/>
          <p:cNvPicPr/>
          <p:nvPr/>
        </p:nvPicPr>
        <p:blipFill>
          <a:blip r:embed="rId1"/>
          <a:stretch/>
        </p:blipFill>
        <p:spPr>
          <a:xfrm>
            <a:off x="2819520" y="3048120"/>
            <a:ext cx="343836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vuz – Idé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idéia é nomear cada estado de um bloco de acordo com as suas transições, de forma que um estado é equivalente a outro sse têm nomes igu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m seguida ordenamos os nomes de cada bloco para encontrarmos os nomes igu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rev-ex1" descr=""/>
          <p:cNvPicPr/>
          <p:nvPr/>
        </p:nvPicPr>
        <p:blipFill>
          <a:blip r:embed="rId1"/>
          <a:stretch/>
        </p:blipFill>
        <p:spPr>
          <a:xfrm>
            <a:off x="1143000" y="3429000"/>
            <a:ext cx="69325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vuz – Observaçõ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algoritmo de ordenação deve ser lin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 ordenação proposta por Revuz é semelhante ao radix s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lém disso, os nomes dados aos estados não podem ser muito grandes (têm que ser de alguma forma lineares també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m problema de busca de padrõ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studamos também a aplicação de Autômatos Finitos num caso de busca de padrões num tex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ados um dicionário K com palavras em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*,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e um texto x, também uma palavra em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queremos saber quais palavras de K ocorrem em 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algoritmo de Alfred Aho e Margaret Corasick constrói um autômato que reconhece a linguagem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ma busca de x nesse autômato consome tempo linear no tamanho de x, ou seja, independe de K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Aho-Corasick - Exemp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xemplo para K = {he, she, hers, his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ac-aut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520056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Aho-Corasick - Observaçõ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tempo de construção do autômato pode ser linear no tamanho de 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espaço também pode ser linear em 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verdade, as complexidades de tempo e espaço dependem muito da implementação. Em geral é feita uma troca de espaço por tempo ou vice-ver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nstrução utiliza as mesmas idéias do algoritmo KM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plementaçõ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mos os três algoritmos em 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objetivo das implementações era apenas compreender melhor os algorit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ou discussões interessa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ustraçõ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balho praticamente indivi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ados não muito concre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r que esse tem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final de 2000 estava procurando por um projeto de iniciação científ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itos assuntos aparentemente interessantes e pouco conhecimento sobre eles: indecis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a. Nami ofereceu aju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squisei vários projetos em Autômatos, mas continuei com o mesmo probl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ulamos então este proje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 experiência foi positiva, aprendi bast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 forma de trabalho com a orientadora foi uma novidade interess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s disciplinas que eu apliquei diretamente neste trabalho for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utômatos e Graf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nálise de Algoritmos e Geometria Computacional, para a parte de análise de algoritm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s disciplinas básicas e de programação, como ED, Lab 1 e 2, POO, Concorrente, X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Proje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tivo: adquirir mais conhecimentos fundamentais da Teoria de Autômatos Finitos para poder futuramente estudar aplicações mais complex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é agora estudam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mos de Minimização de Autômatos Fin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mo de Hopcro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mo de Revuz para autômatos acícl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licação num problema de busca de padr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mo Aho-Corasi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 pouco de Autômato dos Sufix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ó lembrando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 autômato é uma quíntupl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Q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é o conjunto de es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é  o alfabeto (conjunto de símbol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é a função de transi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é o estado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é conjunto dos estados fin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mos que n é o número de estados do autômato (n = |Q|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goritmo de Hopcro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 1971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ohn Hopcrof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ublica um novo algoritmo O(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n log 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artigo original era muito complicado, entã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vid Gr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ublica uma descrição mais clara (com uma pequena modificaçã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 outro artigo recente afirma que, ao contrário do que todos acreditam,  a versão de Hopcroft não é O(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n log 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nimiz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problema que queremos resolver é minimizar o número de estados de um autômato finito determiníst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m outras palavras, dado um autômato </a:t>
            </a:r>
            <a:r>
              <a:rPr b="0" i="1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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queremos encontrar o autômato minimal </a:t>
            </a:r>
            <a:r>
              <a:rPr b="0" i="1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com o menor número de estados e tal que L(</a:t>
            </a:r>
            <a:r>
              <a:rPr b="0" i="1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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 = L(</a:t>
            </a:r>
            <a:r>
              <a:rPr b="0" i="1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uitos já devem ter visto um algoritmo básico O(|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| n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 (ou pior) no curso de Autômatos. A idéia dos dois algoritmos apresentados aqui é pareci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idéia bás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três algoritmos de minimização procuram pelas classes de equivalência e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classes de equivalência representam estados no autômato minim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classes" descr=""/>
          <p:cNvPicPr/>
          <p:nvPr/>
        </p:nvPicPr>
        <p:blipFill>
          <a:blip r:embed="rId1"/>
          <a:stretch/>
        </p:blipFill>
        <p:spPr>
          <a:xfrm>
            <a:off x="914400" y="3962520"/>
            <a:ext cx="728496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pcroft – Iníc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algoritmo começa com uma partição 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endo apenas dois bloc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hop-ex1" descr=""/>
          <p:cNvPicPr/>
          <p:nvPr/>
        </p:nvPicPr>
        <p:blipFill>
          <a:blip r:embed="rId1"/>
          <a:stretch/>
        </p:blipFill>
        <p:spPr>
          <a:xfrm>
            <a:off x="2286000" y="3429000"/>
            <a:ext cx="451476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pcroft – Operação de divis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 seguida, os blocos da partição são divididos de forma que, no final, cada bloco represente uma classe de equivalê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mplo de divisão de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 relação a (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hop-ex2" descr=""/>
          <p:cNvPicPr/>
          <p:nvPr/>
        </p:nvPicPr>
        <p:blipFill>
          <a:blip r:embed="rId1"/>
          <a:stretch/>
        </p:blipFill>
        <p:spPr>
          <a:xfrm>
            <a:off x="2209680" y="3505320"/>
            <a:ext cx="4591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03:59:11Z</dcterms:created>
  <dc:creator>Leo Kazuhiro Ueda</dc:creator>
  <dc:description>Apresentação de MAC 499 com algumas pequenas correções (feitas depois da apresentação)</dc:description>
  <dc:language>en-US</dc:language>
  <cp:lastModifiedBy>Leo Kazuhiro Ueda</cp:lastModifiedBy>
  <dcterms:modified xsi:type="dcterms:W3CDTF">2001-12-07T02:34:11Z</dcterms:modified>
  <cp:revision>28</cp:revision>
  <dc:subject/>
  <dc:title>MAC 499 – Trabalho de Formatura Supervisionado IME-USP – BCC, 2001 – Prof. responsável: Carlos Eduardo Ferreira  Projeto de Iniciação Científica Autômatos Finitos: Algoritmos e Estruturas de Dados</dc:title>
</cp:coreProperties>
</file>