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5410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Hv B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nkGothITC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nkGothITC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nkGothITC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nkGothITC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nkGothITC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nkGothITC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nkGothITC Hv BT"/>
              </a:rPr>
              <a:t>Trabalho de Formatur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FrnkGothITC Hv BT"/>
              </a:rPr>
              <a:t>MAC499 - 2000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nkGothITC Bk BT"/>
              </a:rPr>
              <a:t>Ricardo Koji Ushizaki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nkGothITC Bk BT"/>
              </a:rPr>
              <a:t>http://www.linux.ime.usp.br/~riko/mac499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Orientadora: Profa. Dilma Menezes da Silva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Empresas: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- Touch Tecnologia e Informática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- EverSystems Informática 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</p:txBody>
      </p:sp>
      <p:pic>
        <p:nvPicPr>
          <p:cNvPr id="40" name="rededc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1447920" cy="733320"/>
          </a:xfrm>
          <a:prstGeom prst="rect">
            <a:avLst/>
          </a:prstGeom>
          <a:ln w="0">
            <a:noFill/>
          </a:ln>
        </p:spPr>
      </p:pic>
      <p:pic>
        <p:nvPicPr>
          <p:cNvPr id="41" name="Logo_EverSystems_Color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2381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Hv BT"/>
              </a:rPr>
              <a:t>Touch Tecnologia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nkGothITC Bk BT"/>
              </a:rPr>
              <a:t>Touch Tecnologia e Informática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nkGothITC Bk BT"/>
              </a:rPr>
              <a:t>Estágio de janeiro a setembro de 2000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nkGothITC Bk BT"/>
              </a:rPr>
              <a:t>Portal na Área de Construção Civil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nkGothITC Bk BT"/>
              </a:rPr>
              <a:t>www.rededc.com.br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nkGothITC Bk BT"/>
              </a:rPr>
              <a:t>Jav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rnkGothITC Bk BT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FrnkGothITC Bk BT"/>
              </a:rPr>
              <a:t> Servlet Technology</a:t>
            </a:r>
            <a:endParaRPr b="0" lang="en-US" sz="2800" spc="-1" strike="noStrike">
              <a:solidFill>
                <a:srgbClr val="000000"/>
              </a:solidFill>
              <a:latin typeface="FrnkGothITC Bk BT"/>
            </a:endParaRPr>
          </a:p>
        </p:txBody>
      </p:sp>
      <p:pic>
        <p:nvPicPr>
          <p:cNvPr id="44" name="javalogo52x88" descr=""/>
          <p:cNvPicPr/>
          <p:nvPr/>
        </p:nvPicPr>
        <p:blipFill>
          <a:blip r:embed="rId2"/>
          <a:stretch/>
        </p:blipFill>
        <p:spPr>
          <a:xfrm>
            <a:off x="6303960" y="3666960"/>
            <a:ext cx="620640" cy="1049400"/>
          </a:xfrm>
          <a:prstGeom prst="rect">
            <a:avLst/>
          </a:prstGeom>
          <a:ln w="0">
            <a:noFill/>
          </a:ln>
        </p:spPr>
      </p:pic>
      <p:pic>
        <p:nvPicPr>
          <p:cNvPr id="45" name="overview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502920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duke75x80" descr=""/>
          <p:cNvPicPr/>
          <p:nvPr/>
        </p:nvPicPr>
        <p:blipFill>
          <a:blip r:embed="rId4"/>
          <a:stretch/>
        </p:blipFill>
        <p:spPr>
          <a:xfrm>
            <a:off x="7169040" y="3736800"/>
            <a:ext cx="917640" cy="979560"/>
          </a:xfrm>
          <a:prstGeom prst="rect">
            <a:avLst/>
          </a:prstGeom>
          <a:ln w="0">
            <a:noFill/>
          </a:ln>
        </p:spPr>
      </p:pic>
      <p:pic>
        <p:nvPicPr>
          <p:cNvPr id="47" name="rededc" descr=""/>
          <p:cNvPicPr/>
          <p:nvPr/>
        </p:nvPicPr>
        <p:blipFill>
          <a:blip r:embed="rId5"/>
          <a:stretch/>
        </p:blipFill>
        <p:spPr>
          <a:xfrm>
            <a:off x="6477120" y="2362320"/>
            <a:ext cx="1752480" cy="88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2440" y="6141960"/>
            <a:ext cx="70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http://www.linux.ime.usp.br/~riko/mac499     - Ricardo Koji Ushizaki - riko@linux.ime.usp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Hv BT"/>
              </a:rPr>
              <a:t>EverSystems Informática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nkGothITC Bk BT"/>
              </a:rPr>
              <a:t>EverSystems Informática</a:t>
            </a:r>
            <a:endParaRPr b="0" lang="en-US" sz="32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Bk BT"/>
              </a:rPr>
              <a:t>Início em setembro/2000</a:t>
            </a:r>
            <a:endParaRPr b="0" lang="en-US" sz="28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Bk BT"/>
              </a:rPr>
              <a:t>Área de </a:t>
            </a:r>
            <a:r>
              <a:rPr b="1" lang="en-US" sz="2800" spc="-1" strike="noStrike">
                <a:solidFill>
                  <a:srgbClr val="ffffff"/>
                </a:solidFill>
                <a:latin typeface="FrnkGothITC Bk BT"/>
              </a:rPr>
              <a:t>Research &amp; Development</a:t>
            </a:r>
            <a:endParaRPr b="0" lang="en-US" sz="28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nkGothITC Bk BT"/>
              </a:rPr>
              <a:t>Jav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rnkGothITC Bk BT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FrnkGothITC Bk BT"/>
              </a:rPr>
              <a:t> 2Platform Enterprise Edition</a:t>
            </a:r>
            <a:endParaRPr b="0" lang="en-US" sz="28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581280"/>
            <a:ext cx="5562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- Enterprise Java B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19720"/>
            <a:ext cx="5486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NDI - Java Naming Directory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257800"/>
            <a:ext cx="5486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505320"/>
            <a:ext cx="91440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2440" y="6141960"/>
            <a:ext cx="70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http://www.linux.ime.usp.br/~riko/mac499    - Ricardo Koji Ushizaki - riko@linux.ime.usp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Hv BT"/>
              </a:rPr>
              <a:t>J2EE Technology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pic>
        <p:nvPicPr>
          <p:cNvPr id="58" name="appmodel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31520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92440" y="6141960"/>
            <a:ext cx="70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http://www.linux.ime.usp.br/~riko/mac499    - Ricardo Koji Ushizaki - riko@linux.ime.usp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nkGothITC Hv BT"/>
              </a:rPr>
              <a:t>Conclusão</a:t>
            </a:r>
            <a:endParaRPr b="0" lang="en-US" sz="2800" spc="-1" strike="noStrike">
              <a:solidFill>
                <a:srgbClr val="ffffff"/>
              </a:solidFill>
              <a:latin typeface="FrnkGothITC Hv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nkGothITC Bk BT"/>
              </a:rPr>
              <a:t>Estágio: aprenda novas tecnologias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nkGothITC Bk BT"/>
              </a:rPr>
              <a:t>Esteja em constante aprendizado:</a:t>
            </a:r>
            <a:endParaRPr b="0" lang="en-US" sz="2400" spc="-1" strike="noStrike">
              <a:solidFill>
                <a:srgbClr val="000000"/>
              </a:solidFill>
              <a:latin typeface="FrnkGothITC Bk BT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FrnkGothITC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nkGothITC Bk BT"/>
              </a:rPr>
              <a:t>Internet: fonte de informações</a:t>
            </a:r>
            <a:endParaRPr b="0" lang="en-US" sz="2200" spc="-1" strike="noStrike">
              <a:solidFill>
                <a:srgbClr val="000000"/>
              </a:solidFill>
              <a:latin typeface="FrnkGothITC Bk BT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FrnkGothITC Bk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nkGothITC Bk BT"/>
              </a:rPr>
              <a:t>Crie grupos de estudos. Exemplos:</a:t>
            </a:r>
            <a:endParaRPr b="0" lang="en-US" sz="2200" spc="-1" strike="noStrike">
              <a:solidFill>
                <a:srgbClr val="000000"/>
              </a:solidFill>
              <a:latin typeface="FrnkGothITC Bk B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nkGothITC Bk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Design Patterns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nkGothITC Bk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XP - Extreme Programming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nkGothITC Bk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Refactoring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nkGothITC Bk B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nkGothITC Bk BT"/>
              </a:rPr>
              <a:t>Anti-Patterns</a:t>
            </a:r>
            <a:endParaRPr b="0" lang="en-US" sz="2000" spc="-1" strike="noStrike">
              <a:solidFill>
                <a:srgbClr val="000000"/>
              </a:solidFill>
              <a:latin typeface="FrnkGothITC Bk BT"/>
            </a:endParaRPr>
          </a:p>
        </p:txBody>
      </p:sp>
      <p:sp>
        <p:nvSpPr>
          <p:cNvPr id="62" name=""/>
          <p:cNvSpPr/>
          <p:nvPr/>
        </p:nvSpPr>
        <p:spPr>
          <a:xfrm>
            <a:off x="892440" y="6141960"/>
            <a:ext cx="70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http://www.linux.ime.usp.br/~riko/mac499    - Ricardo Koji Ushizaki - riko@linux.ime.usp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8006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FrnkGothITC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nkGothITC Bk BT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FrnkGothITC Bk BT"/>
              </a:rPr>
              <a:t>Dúvidas, Pergunt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00:24:43Z</dcterms:created>
  <dc:creator>Ricardo Koji Ushizaki</dc:creator>
  <dc:description/>
  <dc:language>en-US</dc:language>
  <cp:lastModifiedBy>Ushizaki</cp:lastModifiedBy>
  <cp:lastPrinted>2000-12-10T12:53:36Z</cp:lastPrinted>
  <dcterms:modified xsi:type="dcterms:W3CDTF">2000-12-13T00:41:13Z</dcterms:modified>
  <cp:revision>38</cp:revision>
  <dc:subject/>
  <dc:title>Trabalho de Formatura MAC499 - 2000</dc:title>
</cp:coreProperties>
</file>