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48C-E29D-4003-863D-B6E847C7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3F8-78B3-4517-8DCE-AAF3B4B0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88F-3136-473D-942F-DC3FC251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0F5-9263-4E6C-B18D-F3695DDB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086-2C2F-4701-A4B9-6E2C6546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A8B-62F9-47B0-B778-5DF55FBB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AA3-CA34-4D13-9517-EB22232A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0A8-DC18-414C-BDEF-54FA6E64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229-F6F9-4D4C-8D8F-2FDB86BB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3EF-4FAE-4831-A2CC-EBE0EC02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21E-3381-46EB-8A5E-32B72FD3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E2F-5763-4FAB-AE5C-2C77A685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2FDC-98AF-4385-A94C-BD78081F5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2960" y="1454040"/>
            <a:ext cx="7316640" cy="242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1522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Flanker 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419720"/>
            <a:ext cx="7162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In the Standard Flanker Task, the participant should focus on the CENTRAL stimulus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ignore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the flanking stimuli on either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For example, in this frame, the middle fish is pointing Left, so the correct response is to press the Left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65280" y="624852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Press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or Click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33720" y="152280"/>
            <a:ext cx="49528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Reverse Flan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ttend to the flan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2960" y="2146320"/>
            <a:ext cx="7316640" cy="242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800600"/>
            <a:ext cx="7162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We have introduced a Reverse Flanker condition, where paarticipants are to attend to the OUTSIDE stimuli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ignore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the central stimu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For example, in this frame, the outside fish are pointing Right, so the correct response is to press the Right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65280" y="624852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Press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or Click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13600" y="284040"/>
            <a:ext cx="4367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lanker Effect by Stimulus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35200" y="4745160"/>
            <a:ext cx="652320" cy="133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87520" y="4427640"/>
            <a:ext cx="639720" cy="45072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27240" y="4844880"/>
            <a:ext cx="649440" cy="33480"/>
          </a:xfrm>
          <a:prstGeom prst="rect">
            <a:avLst/>
          </a:prstGeom>
          <a:solidFill>
            <a:srgbClr val="9933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4678200"/>
            <a:ext cx="639720" cy="200160"/>
          </a:xfrm>
          <a:prstGeom prst="rect">
            <a:avLst/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62080" y="4645080"/>
            <a:ext cx="1800" cy="100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22480" y="4645080"/>
            <a:ext cx="921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62080" y="4745160"/>
            <a:ext cx="1800" cy="99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22480" y="4844880"/>
            <a:ext cx="921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00360" y="432396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0760" y="432432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4427640"/>
            <a:ext cx="1440" cy="98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0760" y="4525920"/>
            <a:ext cx="9036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352680" y="4793760"/>
            <a:ext cx="0" cy="50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3080" y="4794120"/>
            <a:ext cx="903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44880"/>
            <a:ext cx="0" cy="33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3080" y="489600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90960" y="4593960"/>
            <a:ext cx="1440" cy="8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0" y="459432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0960" y="4678200"/>
            <a:ext cx="1440" cy="84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0" y="4762440"/>
            <a:ext cx="9072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4240" y="971640"/>
            <a:ext cx="1440" cy="388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09600" y="4230720"/>
            <a:ext cx="525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01680" y="357192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1680" y="2933640"/>
            <a:ext cx="52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01680" y="2279520"/>
            <a:ext cx="525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01680" y="162576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01680" y="97164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185840" y="1625760"/>
            <a:ext cx="3690720" cy="3254040"/>
            <a:chOff x="1185840" y="1625760"/>
            <a:chExt cx="3690720" cy="3254040"/>
          </a:xfrm>
        </p:grpSpPr>
        <p:sp>
          <p:nvSpPr>
            <p:cNvPr id="78" name=""/>
            <p:cNvSpPr/>
            <p:nvPr/>
          </p:nvSpPr>
          <p:spPr>
            <a:xfrm>
              <a:off x="1220760" y="4222800"/>
              <a:ext cx="3655800" cy="3240"/>
            </a:xfrm>
            <a:prstGeom prst="line">
              <a:avLst/>
            </a:prstGeom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20760" y="3571920"/>
              <a:ext cx="3655800" cy="1440"/>
            </a:xfrm>
            <a:prstGeom prst="line">
              <a:avLst/>
            </a:prstGeom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20760" y="2933640"/>
              <a:ext cx="3655800" cy="1800"/>
            </a:xfrm>
            <a:prstGeom prst="line">
              <a:avLst/>
            </a:prstGeom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20760" y="2279520"/>
              <a:ext cx="3655800" cy="3240"/>
            </a:xfrm>
            <a:prstGeom prst="line">
              <a:avLst/>
            </a:prstGeom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20760" y="1625760"/>
              <a:ext cx="3655800" cy="1440"/>
            </a:xfrm>
            <a:prstGeom prst="line">
              <a:avLst/>
            </a:prstGeom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85840" y="4878360"/>
              <a:ext cx="3655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910440" y="47451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1160" y="40892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3320" y="34369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3320" y="27986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5400" y="2144880"/>
            <a:ext cx="41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3320" y="1492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3320" y="8366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71920" y="5638680"/>
            <a:ext cx="108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64560" y="502596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22000" y="505944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2360" y="504360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75760" y="504180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-94680" y="252540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93760" y="6019920"/>
            <a:ext cx="9644040" cy="88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1214280"/>
            <a:ext cx="3200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Flanker Effect has been replicated many times, but is quite sensitive to stimulus parame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instance, here you can see that there is a Flanker Effect for both standard (Inside) Flanker and for reverse (Outside) Flanker, but the effect essentially disappears when the stimuli are l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23000" y="284040"/>
            <a:ext cx="695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lanker Effect for Single-Task Block vs. Mixed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9920" y="698400"/>
            <a:ext cx="347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-Switching Trials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4240" y="4222800"/>
            <a:ext cx="7089840" cy="32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4240" y="3571920"/>
            <a:ext cx="7089840" cy="14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4240" y="2933640"/>
            <a:ext cx="7089840" cy="180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4240" y="2279520"/>
            <a:ext cx="7089840" cy="32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4240" y="1625760"/>
            <a:ext cx="7089840" cy="14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35200" y="4745160"/>
            <a:ext cx="652320" cy="133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0120" y="2916360"/>
            <a:ext cx="652320" cy="19620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87520" y="4427640"/>
            <a:ext cx="639720" cy="45072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32440" y="2279520"/>
            <a:ext cx="639720" cy="259884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27240" y="4844880"/>
            <a:ext cx="649440" cy="33480"/>
          </a:xfrm>
          <a:prstGeom prst="rect">
            <a:avLst/>
          </a:prstGeom>
          <a:solidFill>
            <a:srgbClr val="9933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72160" y="1876320"/>
            <a:ext cx="650880" cy="3002040"/>
          </a:xfrm>
          <a:prstGeom prst="rect">
            <a:avLst/>
          </a:prstGeom>
          <a:solidFill>
            <a:srgbClr val="9933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76680" y="4678200"/>
            <a:ext cx="639720" cy="200160"/>
          </a:xfrm>
          <a:prstGeom prst="rect">
            <a:avLst/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23040" y="1776240"/>
            <a:ext cx="638280" cy="3102120"/>
          </a:xfrm>
          <a:prstGeom prst="rect">
            <a:avLst/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062080" y="4645080"/>
            <a:ext cx="1800" cy="100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2480" y="4645080"/>
            <a:ext cx="921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607000" y="2477880"/>
            <a:ext cx="1800" cy="433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8840" y="247824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62080" y="4745160"/>
            <a:ext cx="1800" cy="99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22480" y="4844880"/>
            <a:ext cx="921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07000" y="2911320"/>
            <a:ext cx="1800" cy="455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8840" y="336708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700360" y="432396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0760" y="432432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43480" y="1960560"/>
            <a:ext cx="1800" cy="318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05680" y="1960560"/>
            <a:ext cx="91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4427640"/>
            <a:ext cx="1440" cy="98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4525920"/>
            <a:ext cx="9036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3480" y="2279520"/>
            <a:ext cx="1800" cy="319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05680" y="2598840"/>
            <a:ext cx="91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52680" y="4793760"/>
            <a:ext cx="0" cy="50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3080" y="4794120"/>
            <a:ext cx="903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96160" y="1424160"/>
            <a:ext cx="1440" cy="452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1424160"/>
            <a:ext cx="90360" cy="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844880"/>
            <a:ext cx="0" cy="33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13080" y="489600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96160" y="1876320"/>
            <a:ext cx="1440" cy="471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234792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990960" y="4593960"/>
            <a:ext cx="1440" cy="8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0" y="459432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535880" y="13572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96280" y="1357200"/>
            <a:ext cx="918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90960" y="4678200"/>
            <a:ext cx="1440" cy="84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0" y="4762440"/>
            <a:ext cx="9072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35880" y="1776240"/>
            <a:ext cx="1440" cy="417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96280" y="2193840"/>
            <a:ext cx="918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4240" y="971640"/>
            <a:ext cx="1440" cy="388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09600" y="4230720"/>
            <a:ext cx="525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01680" y="357192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01680" y="2933640"/>
            <a:ext cx="52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01680" y="2279520"/>
            <a:ext cx="525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01680" y="162576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01680" y="97164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5840" y="4878360"/>
            <a:ext cx="7089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0440" y="47451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1160" y="40892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3320" y="34369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3320" y="27986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5400" y="2144880"/>
            <a:ext cx="41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3320" y="1492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3320" y="8366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71920" y="5638680"/>
            <a:ext cx="108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3720" y="5638680"/>
            <a:ext cx="223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ck 3 (Mix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4560" y="502596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2000" y="505944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2360" y="504360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5760" y="504180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-94680" y="252540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87160" y="5021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44600" y="503712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64960" y="503856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8360" y="503712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293760" y="6019920"/>
            <a:ext cx="9644040" cy="88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2120" y="603720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gardless of stimulus size, or whether a trial has an Inside or Outside target, the Flanker Effect i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far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larger (6-10 times larger) when standard and reverse Flanker trials are interm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23000" y="284040"/>
            <a:ext cx="695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lanker Effect for Single-Task Block vs. Mixed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39920" y="698400"/>
            <a:ext cx="347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-Switching Trials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4240" y="4222800"/>
            <a:ext cx="7089840" cy="32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4240" y="3571920"/>
            <a:ext cx="7089840" cy="14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4240" y="2933640"/>
            <a:ext cx="7089840" cy="180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4240" y="2279520"/>
            <a:ext cx="7089840" cy="32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4240" y="1625760"/>
            <a:ext cx="7089840" cy="14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35200" y="4745160"/>
            <a:ext cx="652320" cy="133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80120" y="2916360"/>
            <a:ext cx="652320" cy="19620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87520" y="4427640"/>
            <a:ext cx="639720" cy="45072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32440" y="2279520"/>
            <a:ext cx="639720" cy="259884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27240" y="4844880"/>
            <a:ext cx="649440" cy="33480"/>
          </a:xfrm>
          <a:prstGeom prst="rect">
            <a:avLst/>
          </a:prstGeom>
          <a:solidFill>
            <a:srgbClr val="9933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72160" y="1876320"/>
            <a:ext cx="650880" cy="3002040"/>
          </a:xfrm>
          <a:prstGeom prst="rect">
            <a:avLst/>
          </a:prstGeom>
          <a:solidFill>
            <a:srgbClr val="9933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76680" y="4678200"/>
            <a:ext cx="639720" cy="200160"/>
          </a:xfrm>
          <a:prstGeom prst="rect">
            <a:avLst/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23040" y="1776240"/>
            <a:ext cx="638280" cy="3102120"/>
          </a:xfrm>
          <a:prstGeom prst="rect">
            <a:avLst/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62080" y="4645080"/>
            <a:ext cx="1800" cy="100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22480" y="4645080"/>
            <a:ext cx="921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07000" y="2477880"/>
            <a:ext cx="1800" cy="433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68840" y="247824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62080" y="4745160"/>
            <a:ext cx="1800" cy="99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22480" y="4844880"/>
            <a:ext cx="921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07000" y="2911320"/>
            <a:ext cx="1800" cy="455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8840" y="336708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00360" y="432396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60760" y="432432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243480" y="1960560"/>
            <a:ext cx="1800" cy="318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05680" y="1960560"/>
            <a:ext cx="91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4427640"/>
            <a:ext cx="1440" cy="98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60760" y="4525920"/>
            <a:ext cx="9036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43480" y="2279520"/>
            <a:ext cx="1800" cy="319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05680" y="2598840"/>
            <a:ext cx="91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4793760"/>
            <a:ext cx="0" cy="50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13080" y="4794120"/>
            <a:ext cx="903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896160" y="1424160"/>
            <a:ext cx="1440" cy="452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1424160"/>
            <a:ext cx="90360" cy="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4844880"/>
            <a:ext cx="0" cy="33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13080" y="489600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96160" y="1876320"/>
            <a:ext cx="1440" cy="471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234792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990960" y="4593960"/>
            <a:ext cx="1440" cy="8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0" y="459432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535880" y="13572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96280" y="1357200"/>
            <a:ext cx="918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0960" y="4678200"/>
            <a:ext cx="1440" cy="84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0" y="4762440"/>
            <a:ext cx="9072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35880" y="1776240"/>
            <a:ext cx="1440" cy="417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96280" y="2193840"/>
            <a:ext cx="918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4240" y="971640"/>
            <a:ext cx="1440" cy="388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09600" y="4230720"/>
            <a:ext cx="525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01680" y="357192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01680" y="2933640"/>
            <a:ext cx="52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01680" y="2279520"/>
            <a:ext cx="525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01680" y="162576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01680" y="97164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85840" y="4878360"/>
            <a:ext cx="7089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0440" y="47451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1160" y="40892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3320" y="34369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3320" y="27986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5400" y="2144880"/>
            <a:ext cx="41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3320" y="1492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3320" y="8366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71920" y="5638680"/>
            <a:ext cx="108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43720" y="5638680"/>
            <a:ext cx="223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ck 3 (Mix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64560" y="502596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000" y="505944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2360" y="504360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75760" y="504180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-94680" y="252540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87160" y="5021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44600" y="503712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64960" y="503856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8360" y="503712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293760" y="6019920"/>
            <a:ext cx="9644040" cy="88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2120" y="603720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Also, when standard and reverse Flanker trials are intermixed, the Flanker Effect is no longer sensitive to stimulus parameters such as stimulus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1219320"/>
            <a:ext cx="4038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is is the Flanker Effect, not any Switch Cost Effect, and ONLY non-switch trials even from the mixed block are included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697040" y="247680"/>
            <a:ext cx="5976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lanker Effect by Block (Standard vs. Mixe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48200" y="716040"/>
            <a:ext cx="296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-Swit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38400" y="966960"/>
            <a:ext cx="7051680" cy="39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38400" y="4294080"/>
            <a:ext cx="7051680" cy="32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8400" y="3618000"/>
            <a:ext cx="7051680" cy="14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38400" y="2960640"/>
            <a:ext cx="7051680" cy="180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38400" y="2301840"/>
            <a:ext cx="7051680" cy="180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38400" y="1625760"/>
            <a:ext cx="7051680" cy="14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57440" y="4487760"/>
            <a:ext cx="563400" cy="465120"/>
          </a:xfrm>
          <a:prstGeom prst="rect">
            <a:avLst/>
          </a:prstGeom>
          <a:solidFill>
            <a:srgbClr val="33cc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62160" y="4727520"/>
            <a:ext cx="577800" cy="225360"/>
          </a:xfrm>
          <a:prstGeom prst="rect">
            <a:avLst/>
          </a:prstGeom>
          <a:solidFill>
            <a:srgbClr val="33cc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81640" y="2301840"/>
            <a:ext cx="561960" cy="2651040"/>
          </a:xfrm>
          <a:prstGeom prst="rect">
            <a:avLst/>
          </a:prstGeom>
          <a:solidFill>
            <a:srgbClr val="33cc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86360" y="4616280"/>
            <a:ext cx="579600" cy="336600"/>
          </a:xfrm>
          <a:prstGeom prst="rect">
            <a:avLst/>
          </a:prstGeom>
          <a:solidFill>
            <a:srgbClr val="33cc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05840" y="4470480"/>
            <a:ext cx="563400" cy="482400"/>
          </a:xfrm>
          <a:prstGeom prst="rect">
            <a:avLst/>
          </a:prstGeom>
          <a:solidFill>
            <a:srgbClr val="33cc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936800" y="4390560"/>
            <a:ext cx="144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2160" y="4390920"/>
            <a:ext cx="109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343320" y="4646160"/>
            <a:ext cx="1440" cy="81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97240" y="4646520"/>
            <a:ext cx="108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762440" y="1979280"/>
            <a:ext cx="1800" cy="322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1979640"/>
            <a:ext cx="109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168960" y="4537080"/>
            <a:ext cx="1800" cy="79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21440" y="4537080"/>
            <a:ext cx="109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586640" y="4374720"/>
            <a:ext cx="1440" cy="95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40560" y="4375080"/>
            <a:ext cx="1094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36800" y="4487760"/>
            <a:ext cx="1440" cy="95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2160" y="4583160"/>
            <a:ext cx="109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43320" y="4727520"/>
            <a:ext cx="144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97240" y="4824360"/>
            <a:ext cx="108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62440" y="2301840"/>
            <a:ext cx="1800" cy="3366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2638440"/>
            <a:ext cx="109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68960" y="4616280"/>
            <a:ext cx="1800" cy="79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21440" y="4695840"/>
            <a:ext cx="109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86640" y="4470480"/>
            <a:ext cx="144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40560" y="4567320"/>
            <a:ext cx="109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54240" y="966960"/>
            <a:ext cx="144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73240" y="4952880"/>
            <a:ext cx="6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73240" y="4294080"/>
            <a:ext cx="651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73240" y="3618000"/>
            <a:ext cx="65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73240" y="2960640"/>
            <a:ext cx="65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73240" y="2301840"/>
            <a:ext cx="65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73240" y="1625760"/>
            <a:ext cx="65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73240" y="965160"/>
            <a:ext cx="65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38400" y="4952880"/>
            <a:ext cx="705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4824360"/>
            <a:ext cx="22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0560" y="41655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1120" y="3490920"/>
            <a:ext cx="67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1120" y="2832120"/>
            <a:ext cx="67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1120" y="2171880"/>
            <a:ext cx="67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120" y="1496880"/>
            <a:ext cx="67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1120" y="838080"/>
            <a:ext cx="67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72040" y="5130720"/>
            <a:ext cx="92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ck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19240" y="513072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c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29720" y="5130720"/>
            <a:ext cx="921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ck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(Mix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81600" y="513072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ck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74080" y="5130720"/>
            <a:ext cx="13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ck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-158040" y="277308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293760" y="5867280"/>
            <a:ext cx="964404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867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his dramatic increase in Flanker Effect size is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NOT</a:t>
            </a:r>
            <a:r>
              <a:rPr b="0" lang="en-US" sz="1800" spc="-1" strike="noStrike">
                <a:solidFill>
                  <a:srgbClr val="bbe0e3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due to practice effects.   Note that the Flanker Effect in the Mixed Block is larger than both the blocks before it AND afte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560" y="18284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cc00"/>
                </a:solidFill>
                <a:latin typeface="Arial"/>
              </a:rPr>
              <a:t>Dramatically Larger Flanker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09560" y="3027240"/>
            <a:ext cx="68025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rah Munro, Cecil Chau, Karine Gazarian &amp; Adele Diam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sented at the Cognitive Neuroscience Society Annual Meeting, San Francisco, CA, April 9, 200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00120" y="2733840"/>
            <a:ext cx="7058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-732600" y="320760"/>
            <a:ext cx="1793880" cy="610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-731880" y="357120"/>
            <a:ext cx="1463760" cy="48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1c00b"/>
          </a:solidFill>
          <a:ln w="9360">
            <a:solidFill>
              <a:srgbClr val="f1c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181840" cy="3855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80880" y="431172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 Rounded MT Bold"/>
              </a:rPr>
              <a:t>Diamond, A., Barnett, W.S., Thomas, J., &amp; Munro, S. (2007).  Preschool program improves cognitive control, </a:t>
            </a:r>
            <a:r>
              <a:rPr b="0" i="1" lang="en-US" sz="2000" spc="-1" strike="noStrike">
                <a:solidFill>
                  <a:srgbClr val="339966"/>
                </a:solidFill>
                <a:latin typeface="Arial Rounded MT Bold"/>
              </a:rPr>
              <a:t>Science, 318</a:t>
            </a:r>
            <a:r>
              <a:rPr b="0" lang="en-US" sz="2000" spc="-1" strike="noStrike">
                <a:solidFill>
                  <a:srgbClr val="339966"/>
                </a:solidFill>
                <a:latin typeface="Arial Rounded MT Bold"/>
              </a:rPr>
              <a:t>, 387-3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5334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tandard and reverse Flanker conditions were used with 5-year-olds as part of a study to evaluate the efficacy of a preschool intervention that targets Executive Func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 rot="16200000">
            <a:off x="-1380960" y="2990880"/>
            <a:ext cx="39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Rounded MT Bold"/>
              </a:rPr>
              <a:t>Correct Responses (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0000" y="981000"/>
            <a:ext cx="0" cy="4944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89240" y="555768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89240" y="479412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89240" y="403380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89240" y="326880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89240" y="250668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89240" y="174312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89240" y="98100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4680" y="54356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94680" y="46702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94680" y="39099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94680" y="31478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94680" y="238752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94680" y="162252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94680" y="8618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38200" y="968400"/>
            <a:ext cx="1800" cy="4973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355760" y="5727600"/>
            <a:ext cx="154080" cy="150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7720" y="1562040"/>
            <a:ext cx="366840" cy="4362480"/>
          </a:xfrm>
          <a:prstGeom prst="rect">
            <a:avLst/>
          </a:prstGeom>
          <a:solidFill>
            <a:srgbClr val="ff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817560"/>
            <a:ext cx="366840" cy="5092560"/>
          </a:xfrm>
          <a:prstGeom prst="rect">
            <a:avLst/>
          </a:prstGeom>
          <a:solidFill>
            <a:srgbClr val="00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830240" y="1285560"/>
            <a:ext cx="0" cy="27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71560" y="1285920"/>
            <a:ext cx="1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297160" y="68580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38480" y="685800"/>
            <a:ext cx="10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30240" y="1562040"/>
            <a:ext cx="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71560" y="1819440"/>
            <a:ext cx="1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98600" y="817560"/>
            <a:ext cx="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38480" y="965160"/>
            <a:ext cx="10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79800" y="2857680"/>
            <a:ext cx="366840" cy="3051000"/>
          </a:xfrm>
          <a:prstGeom prst="rect">
            <a:avLst/>
          </a:prstGeom>
          <a:solidFill>
            <a:srgbClr val="ff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35560" y="1389240"/>
            <a:ext cx="365040" cy="4519440"/>
          </a:xfrm>
          <a:prstGeom prst="rect">
            <a:avLst/>
          </a:prstGeom>
          <a:solidFill>
            <a:srgbClr val="00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165560" y="2486160"/>
            <a:ext cx="0" cy="37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10120" y="2486160"/>
            <a:ext cx="10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21320" y="1238040"/>
            <a:ext cx="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65520" y="1238400"/>
            <a:ext cx="10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65560" y="2857680"/>
            <a:ext cx="0" cy="3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10120" y="3230640"/>
            <a:ext cx="10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21320" y="1389240"/>
            <a:ext cx="0" cy="16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65520" y="1554120"/>
            <a:ext cx="10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72840" y="6004080"/>
            <a:ext cx="114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lan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24040" y="6004080"/>
            <a:ext cx="176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Rev. Flan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22360" y="5919840"/>
            <a:ext cx="3629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2006640"/>
            <a:ext cx="3353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ildren in the Tools of the Mind preschool program performed significantly better than children in the District Curriculum on the standard Flanker condition, though the difference was not l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the Reverse Flanker condition (which was always presented AFTER the  standard condition), the difference was both significant AND l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62720" y="762120"/>
            <a:ext cx="15228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62720" y="1143000"/>
            <a:ext cx="152280" cy="152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22280" y="66816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strict 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0480" y="106668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ols of the Mind 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(TOM targets E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23:46:53Z</dcterms:created>
  <dc:creator>Sarah Munro</dc:creator>
  <dc:description/>
  <dc:language>en-US</dc:language>
  <cp:lastModifiedBy>Adele Diamond</cp:lastModifiedBy>
  <dcterms:modified xsi:type="dcterms:W3CDTF">2008-01-25T00:02:02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35298645</vt:r8>
  </property>
  <property fmtid="{D5CDD505-2E9C-101B-9397-08002B2CF9AE}" pid="3" name="_AuthorEmail">
    <vt:lpwstr>Adele.Diamond@ubc.ca</vt:lpwstr>
  </property>
  <property fmtid="{D5CDD505-2E9C-101B-9397-08002B2CF9AE}" pid="4" name="_AuthorEmailDisplayName">
    <vt:lpwstr>Adele Diamond</vt:lpwstr>
  </property>
  <property fmtid="{D5CDD505-2E9C-101B-9397-08002B2CF9AE}" pid="5" name="_EmailSubject">
    <vt:lpwstr>Flanker Info slides</vt:lpwstr>
  </property>
</Properties>
</file>