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FA6-80CD-47F6-ADB4-DD753F0A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46E-F5F8-4E91-8CE1-4695EC87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D75-37D1-4C56-8F62-07731346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9DC-AB59-47D5-B0E3-1487C231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A51-07EF-41DE-9A6E-1D0CBAA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141-DE84-4805-824B-8193A484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851-0652-4D20-807A-47A2403F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F4A-BD47-42BB-8FEA-2B99FAA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639-7527-419E-942C-C9388B7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827-02A8-470A-81DF-12B1F6B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802-3213-471F-8717-76B3401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65D-EA8B-4851-840E-04C406B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F70-8F25-47ED-BF79-71C2A80C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7880" y="5335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game you are going to see lots of FISH like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1430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2960" y="2590920"/>
            <a:ext cx="73166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41911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job is feed the HUNGRY F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61320" y="65530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8839080" y="-457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457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5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7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4600" y="5335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E! When the fish ar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ngry fish are on the OUT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feed the OUTSIDE fish by pressing where they’re fa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the OUTSIDE fish are facing this way, so you press the RIGHT butt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924680" y="5638680"/>
            <a:ext cx="1219320" cy="12193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76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lay with jus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h.  Feed the fish on the OUTSIDE by pressing where they’re f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2960" y="2666880"/>
            <a:ext cx="731664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0800000">
            <a:off x="3581280" y="3886200"/>
            <a:ext cx="1981440" cy="9144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5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7880" y="533520"/>
            <a:ext cx="7238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fish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ngry fish is in the MID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feed the MIDDLE fish by pressing where he’s fa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the MIDDLE fish is facing this way, so you press the LEFT butt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3886200"/>
            <a:ext cx="1981080" cy="914400"/>
          </a:xfrm>
          <a:prstGeom prst="leftArrow">
            <a:avLst>
              <a:gd name="adj1" fmla="val 50000"/>
              <a:gd name="adj2" fmla="val 541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38680"/>
            <a:ext cx="1219320" cy="12193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876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lay with just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sh.  Feed the fish in the MIDDLE by pressing where he’s f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9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65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8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6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3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4600" y="533520"/>
            <a:ext cx="8763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E! Now let’s play with BOTH colors.  REMEMB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feed the MIDDLE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feed the OUTSIDE f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0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09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17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73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29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65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8839080" y="-457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457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1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17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53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9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38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7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097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89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7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01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65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13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2286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67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7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2:17:32Z</dcterms:created>
  <dc:creator>Sarah Munro</dc:creator>
  <dc:description/>
  <dc:language>en-US</dc:language>
  <cp:lastModifiedBy>Sarah Munro</cp:lastModifiedBy>
  <dcterms:modified xsi:type="dcterms:W3CDTF">2008-01-24T22:32:24Z</dcterms:modified>
  <cp:revision>23</cp:revision>
  <dc:subject/>
  <dc:title>Slide 1</dc:title>
</cp:coreProperties>
</file>