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AA20-E286-43B0-9826-B0149C95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2965-3745-4155-89B6-B0B1774D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DAC-DEB9-4DC4-8199-3F14934C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BAF4-667C-46B2-9BF4-A46427AA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2DF2-3020-4100-9948-51945D68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BF2-A864-4E49-82D7-8B661917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450-6C29-498E-AD07-E442EAD8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215-A947-4E1D-A814-4DDEAB32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24DD-F783-4FC6-B3B7-FF42BF59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00BA-2BB1-4C0D-886F-524520A7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9DDF-C000-47B5-86E1-38ECC541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C080-6730-4D4A-859A-DEFEE978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4DBA-2F5B-43B5-A078-644F7F4CF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2960" y="1454040"/>
            <a:ext cx="7316640" cy="2425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71800" y="1522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Flanker T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4419720"/>
            <a:ext cx="7162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In the Standard Flanker Task, the participant should focus on the CENTRAL stimulus and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 Rounded MT Bold"/>
              </a:rPr>
              <a:t>ignore</a:t>
            </a: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 the flanking stimuli on either 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For example, in this frame, the middle fish is pointing Left, so the correct response is to press the Left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865280" y="624852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Press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or Click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33720" y="152280"/>
            <a:ext cx="49528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Reverse Flan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attend to the flan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2960" y="2146320"/>
            <a:ext cx="7316640" cy="2425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4800600"/>
            <a:ext cx="71629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We have introduced a Reverse Flanker condition, where paarticipants are to attend to the OUTSIDE stimuli and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 Rounded MT Bold"/>
              </a:rPr>
              <a:t>ignore</a:t>
            </a: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 the central stimul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For example, in this frame, the outside fish are pointing Right, so the correct response is to press the Right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65280" y="624852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Press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or Click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13600" y="284040"/>
            <a:ext cx="4367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Flanker Effect by Stimulus 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35200" y="4745160"/>
            <a:ext cx="652320" cy="1332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87520" y="4427640"/>
            <a:ext cx="639720" cy="450720"/>
          </a:xfrm>
          <a:prstGeom prst="rect">
            <a:avLst/>
          </a:prstGeom>
          <a:solidFill>
            <a:srgbClr val="33cc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27240" y="4844880"/>
            <a:ext cx="649440" cy="33480"/>
          </a:xfrm>
          <a:prstGeom prst="rect">
            <a:avLst/>
          </a:prstGeom>
          <a:solidFill>
            <a:srgbClr val="99336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4678200"/>
            <a:ext cx="639720" cy="200160"/>
          </a:xfrm>
          <a:prstGeom prst="rect">
            <a:avLst/>
          </a:prstGeom>
          <a:solidFill>
            <a:srgbClr val="ff99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062080" y="4645080"/>
            <a:ext cx="1800" cy="100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22480" y="4645080"/>
            <a:ext cx="921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62080" y="4745160"/>
            <a:ext cx="1800" cy="99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22480" y="4844880"/>
            <a:ext cx="921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700360" y="4323960"/>
            <a:ext cx="1440" cy="103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0760" y="4324320"/>
            <a:ext cx="90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4427640"/>
            <a:ext cx="1440" cy="98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0760" y="4525920"/>
            <a:ext cx="90360" cy="3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352680" y="4793760"/>
            <a:ext cx="0" cy="50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3080" y="4794120"/>
            <a:ext cx="903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4844880"/>
            <a:ext cx="0" cy="33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3080" y="4896000"/>
            <a:ext cx="90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990960" y="4593960"/>
            <a:ext cx="1440" cy="83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0" y="4594320"/>
            <a:ext cx="907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90960" y="4678200"/>
            <a:ext cx="1440" cy="84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0" y="4762440"/>
            <a:ext cx="90720" cy="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54240" y="971640"/>
            <a:ext cx="1440" cy="388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09600" y="4230720"/>
            <a:ext cx="5256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01680" y="3571920"/>
            <a:ext cx="5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01680" y="2933640"/>
            <a:ext cx="52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01680" y="2279520"/>
            <a:ext cx="5256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01680" y="1625760"/>
            <a:ext cx="5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01680" y="971640"/>
            <a:ext cx="5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185840" y="1625760"/>
            <a:ext cx="3690720" cy="3254040"/>
            <a:chOff x="1185840" y="1625760"/>
            <a:chExt cx="3690720" cy="3254040"/>
          </a:xfrm>
        </p:grpSpPr>
        <p:sp>
          <p:nvSpPr>
            <p:cNvPr id="78" name=""/>
            <p:cNvSpPr/>
            <p:nvPr/>
          </p:nvSpPr>
          <p:spPr>
            <a:xfrm>
              <a:off x="1220760" y="4222800"/>
              <a:ext cx="3655800" cy="3240"/>
            </a:xfrm>
            <a:prstGeom prst="line">
              <a:avLst/>
            </a:prstGeom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20760" y="3571920"/>
              <a:ext cx="3655800" cy="1440"/>
            </a:xfrm>
            <a:prstGeom prst="line">
              <a:avLst/>
            </a:prstGeom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20760" y="2933640"/>
              <a:ext cx="3655800" cy="1800"/>
            </a:xfrm>
            <a:prstGeom prst="line">
              <a:avLst/>
            </a:prstGeom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20760" y="2279520"/>
              <a:ext cx="3655800" cy="3240"/>
            </a:xfrm>
            <a:prstGeom prst="line">
              <a:avLst/>
            </a:prstGeom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20760" y="1625760"/>
              <a:ext cx="3655800" cy="1440"/>
            </a:xfrm>
            <a:prstGeom prst="line">
              <a:avLst/>
            </a:prstGeom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85840" y="4878360"/>
              <a:ext cx="36558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910440" y="47451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1160" y="408924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3320" y="34369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3320" y="279864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5400" y="2144880"/>
            <a:ext cx="41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3320" y="14922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3320" y="83664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71920" y="5638680"/>
            <a:ext cx="1084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oc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64560" y="502596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22000" y="505944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2360" y="5043600"/>
            <a:ext cx="9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75760" y="5041800"/>
            <a:ext cx="9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-94680" y="2525400"/>
            <a:ext cx="91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293760" y="6019920"/>
            <a:ext cx="9644040" cy="88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62720" y="1214280"/>
            <a:ext cx="3200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Flanker Effect has been replicated many times, but is quite sensitive to stimulus parame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or instance, here you can see that there is a Flanker Effect for both standard (Inside) Flanker and for reverse (Outside) Flanker, but the effect essentially disappears when the stimuli are lar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23000" y="284040"/>
            <a:ext cx="6954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lanker Effect for Single-Task Block vs. Mixed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39920" y="698400"/>
            <a:ext cx="347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on-Switching Trials 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4240" y="4222800"/>
            <a:ext cx="7089840" cy="324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54240" y="3571920"/>
            <a:ext cx="7089840" cy="144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54240" y="2933640"/>
            <a:ext cx="7089840" cy="180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54240" y="2279520"/>
            <a:ext cx="7089840" cy="324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4240" y="1625760"/>
            <a:ext cx="7089840" cy="144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35200" y="4745160"/>
            <a:ext cx="652320" cy="1332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80120" y="2916360"/>
            <a:ext cx="652320" cy="19620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87520" y="4427640"/>
            <a:ext cx="639720" cy="450720"/>
          </a:xfrm>
          <a:prstGeom prst="rect">
            <a:avLst/>
          </a:prstGeom>
          <a:solidFill>
            <a:srgbClr val="33cc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32440" y="2279520"/>
            <a:ext cx="639720" cy="2598840"/>
          </a:xfrm>
          <a:prstGeom prst="rect">
            <a:avLst/>
          </a:prstGeom>
          <a:solidFill>
            <a:srgbClr val="33cc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27240" y="4844880"/>
            <a:ext cx="649440" cy="33480"/>
          </a:xfrm>
          <a:prstGeom prst="rect">
            <a:avLst/>
          </a:prstGeom>
          <a:solidFill>
            <a:srgbClr val="99336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72160" y="1876320"/>
            <a:ext cx="650880" cy="3002040"/>
          </a:xfrm>
          <a:prstGeom prst="rect">
            <a:avLst/>
          </a:prstGeom>
          <a:solidFill>
            <a:srgbClr val="99336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76680" y="4678200"/>
            <a:ext cx="639720" cy="200160"/>
          </a:xfrm>
          <a:prstGeom prst="rect">
            <a:avLst/>
          </a:prstGeom>
          <a:solidFill>
            <a:srgbClr val="ff99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23040" y="1776240"/>
            <a:ext cx="638280" cy="3102120"/>
          </a:xfrm>
          <a:prstGeom prst="rect">
            <a:avLst/>
          </a:prstGeom>
          <a:solidFill>
            <a:srgbClr val="ff99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062080" y="4645080"/>
            <a:ext cx="1800" cy="100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22480" y="4645080"/>
            <a:ext cx="921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607000" y="2477880"/>
            <a:ext cx="1800" cy="433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8840" y="2478240"/>
            <a:ext cx="907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62080" y="4745160"/>
            <a:ext cx="1800" cy="99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22480" y="4844880"/>
            <a:ext cx="921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07000" y="2911320"/>
            <a:ext cx="1800" cy="455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68840" y="3367080"/>
            <a:ext cx="907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700360" y="4323960"/>
            <a:ext cx="1440" cy="103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60760" y="4324320"/>
            <a:ext cx="90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43480" y="1960560"/>
            <a:ext cx="1800" cy="318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05680" y="1960560"/>
            <a:ext cx="918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4427640"/>
            <a:ext cx="1440" cy="98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60760" y="4525920"/>
            <a:ext cx="90360" cy="3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43480" y="2279520"/>
            <a:ext cx="1800" cy="319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05680" y="2598840"/>
            <a:ext cx="918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52680" y="4793760"/>
            <a:ext cx="0" cy="50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13080" y="4794120"/>
            <a:ext cx="903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896160" y="1424160"/>
            <a:ext cx="1440" cy="452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0" y="1424160"/>
            <a:ext cx="90360" cy="2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4844880"/>
            <a:ext cx="0" cy="33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13080" y="4896000"/>
            <a:ext cx="90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96160" y="1876320"/>
            <a:ext cx="1440" cy="471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0" y="2347920"/>
            <a:ext cx="90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990960" y="4593960"/>
            <a:ext cx="1440" cy="83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0" y="4594320"/>
            <a:ext cx="907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535880" y="13572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96280" y="1357200"/>
            <a:ext cx="918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90960" y="4678200"/>
            <a:ext cx="1440" cy="84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0" y="4762440"/>
            <a:ext cx="90720" cy="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35880" y="1776240"/>
            <a:ext cx="1440" cy="417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96280" y="2193840"/>
            <a:ext cx="918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54240" y="971640"/>
            <a:ext cx="1440" cy="388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09600" y="4230720"/>
            <a:ext cx="5256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01680" y="3571920"/>
            <a:ext cx="5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01680" y="2933640"/>
            <a:ext cx="52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01680" y="2279520"/>
            <a:ext cx="5256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01680" y="1625760"/>
            <a:ext cx="5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01680" y="971640"/>
            <a:ext cx="5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85840" y="4878360"/>
            <a:ext cx="7089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0440" y="47451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1160" y="408924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3320" y="34369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3320" y="279864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5400" y="2144880"/>
            <a:ext cx="41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3320" y="14922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3320" y="83664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71920" y="5638680"/>
            <a:ext cx="1084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oc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43720" y="5638680"/>
            <a:ext cx="223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ock 3 (Mix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64560" y="502596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22000" y="505944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2360" y="5043600"/>
            <a:ext cx="9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5760" y="5041800"/>
            <a:ext cx="9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-94680" y="2525400"/>
            <a:ext cx="91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87160" y="50212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44600" y="503712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64960" y="5038560"/>
            <a:ext cx="9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98360" y="5037120"/>
            <a:ext cx="9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293760" y="6019920"/>
            <a:ext cx="9644040" cy="88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2120" y="6037200"/>
            <a:ext cx="87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gardless of stimulus size, or whether a trial has an Inside or Outside target, the Flanker Effect is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 Rounded MT Bold"/>
              </a:rPr>
              <a:t>far</a:t>
            </a: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 larger (6-10 times larger) when standard and reverse Flanker trials are intermix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23000" y="284040"/>
            <a:ext cx="6954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lanker Effect for Single-Task Block vs. Mixed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39920" y="698400"/>
            <a:ext cx="347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on-Switching Trials 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4240" y="4222800"/>
            <a:ext cx="7089840" cy="324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54240" y="3571920"/>
            <a:ext cx="7089840" cy="144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54240" y="2933640"/>
            <a:ext cx="7089840" cy="180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54240" y="2279520"/>
            <a:ext cx="7089840" cy="324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4240" y="1625760"/>
            <a:ext cx="7089840" cy="144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35200" y="4745160"/>
            <a:ext cx="652320" cy="1332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80120" y="2916360"/>
            <a:ext cx="652320" cy="1962000"/>
          </a:xfrm>
          <a:prstGeom prst="rect">
            <a:avLst/>
          </a:prstGeom>
          <a:solidFill>
            <a:srgbClr val="9999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87520" y="4427640"/>
            <a:ext cx="639720" cy="450720"/>
          </a:xfrm>
          <a:prstGeom prst="rect">
            <a:avLst/>
          </a:prstGeom>
          <a:solidFill>
            <a:srgbClr val="33cc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32440" y="2279520"/>
            <a:ext cx="639720" cy="2598840"/>
          </a:xfrm>
          <a:prstGeom prst="rect">
            <a:avLst/>
          </a:prstGeom>
          <a:solidFill>
            <a:srgbClr val="33cc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27240" y="4844880"/>
            <a:ext cx="649440" cy="33480"/>
          </a:xfrm>
          <a:prstGeom prst="rect">
            <a:avLst/>
          </a:prstGeom>
          <a:solidFill>
            <a:srgbClr val="99336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72160" y="1876320"/>
            <a:ext cx="650880" cy="3002040"/>
          </a:xfrm>
          <a:prstGeom prst="rect">
            <a:avLst/>
          </a:prstGeom>
          <a:solidFill>
            <a:srgbClr val="99336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76680" y="4678200"/>
            <a:ext cx="639720" cy="200160"/>
          </a:xfrm>
          <a:prstGeom prst="rect">
            <a:avLst/>
          </a:prstGeom>
          <a:solidFill>
            <a:srgbClr val="ff99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23040" y="1776240"/>
            <a:ext cx="638280" cy="3102120"/>
          </a:xfrm>
          <a:prstGeom prst="rect">
            <a:avLst/>
          </a:prstGeom>
          <a:solidFill>
            <a:srgbClr val="ff99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062080" y="4645080"/>
            <a:ext cx="1800" cy="100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22480" y="4645080"/>
            <a:ext cx="921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07000" y="2477880"/>
            <a:ext cx="1800" cy="433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68840" y="2478240"/>
            <a:ext cx="907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62080" y="4745160"/>
            <a:ext cx="1800" cy="99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22480" y="4844880"/>
            <a:ext cx="921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07000" y="2911320"/>
            <a:ext cx="1800" cy="455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68840" y="3367080"/>
            <a:ext cx="907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700360" y="4323960"/>
            <a:ext cx="1440" cy="103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60760" y="4324320"/>
            <a:ext cx="90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243480" y="1960560"/>
            <a:ext cx="1800" cy="318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05680" y="1960560"/>
            <a:ext cx="918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00360" y="4427640"/>
            <a:ext cx="1440" cy="98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60760" y="4525920"/>
            <a:ext cx="90360" cy="3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43480" y="2279520"/>
            <a:ext cx="1800" cy="319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05680" y="2598840"/>
            <a:ext cx="918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352680" y="4793760"/>
            <a:ext cx="0" cy="50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13080" y="4794120"/>
            <a:ext cx="903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896160" y="1424160"/>
            <a:ext cx="1440" cy="452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0" y="1424160"/>
            <a:ext cx="90360" cy="2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4844880"/>
            <a:ext cx="0" cy="33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13080" y="4896000"/>
            <a:ext cx="90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96160" y="1876320"/>
            <a:ext cx="1440" cy="471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2347920"/>
            <a:ext cx="90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990960" y="4593960"/>
            <a:ext cx="1440" cy="83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0" y="4594320"/>
            <a:ext cx="907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535880" y="13572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96280" y="1357200"/>
            <a:ext cx="918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90960" y="4678200"/>
            <a:ext cx="1440" cy="84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0" y="4762440"/>
            <a:ext cx="90720" cy="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35880" y="1776240"/>
            <a:ext cx="1440" cy="417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96280" y="2193840"/>
            <a:ext cx="9180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4240" y="971640"/>
            <a:ext cx="1440" cy="388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09600" y="4230720"/>
            <a:ext cx="5256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01680" y="3571920"/>
            <a:ext cx="5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01680" y="2933640"/>
            <a:ext cx="52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01680" y="2279520"/>
            <a:ext cx="5256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01680" y="1625760"/>
            <a:ext cx="5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01680" y="971640"/>
            <a:ext cx="52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85840" y="4878360"/>
            <a:ext cx="7089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0440" y="47451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1160" y="408924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3320" y="34369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3320" y="279864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5400" y="2144880"/>
            <a:ext cx="41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33320" y="14922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3320" y="83664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71920" y="5638680"/>
            <a:ext cx="1084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oc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43720" y="5638680"/>
            <a:ext cx="223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ock 3 (Mix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64560" y="502596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000" y="505944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2360" y="5043600"/>
            <a:ext cx="9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75760" y="5041800"/>
            <a:ext cx="9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-94680" y="2525400"/>
            <a:ext cx="91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87160" y="50212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844600" y="503712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64960" y="5038560"/>
            <a:ext cx="9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98360" y="5037120"/>
            <a:ext cx="93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-293760" y="6019920"/>
            <a:ext cx="9644040" cy="88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2120" y="6037200"/>
            <a:ext cx="87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Also, when standard and reverse Flanker trials are intermixed, the Flanker Effect is no longer sensitive to stimulus parameters such as stimulus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23880" y="1219320"/>
            <a:ext cx="4038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this is the Flanker Effect, not any Switch Cost Effect, and ONLY non-switch trials even from the mixed block are included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697040" y="247680"/>
            <a:ext cx="5976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lanker Effect by Block (Standard vs. Mixed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48200" y="716040"/>
            <a:ext cx="2961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ID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on-Swit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38400" y="966960"/>
            <a:ext cx="7051680" cy="39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38400" y="4294080"/>
            <a:ext cx="7051680" cy="324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8400" y="3618000"/>
            <a:ext cx="7051680" cy="144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38400" y="2960640"/>
            <a:ext cx="7051680" cy="180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38400" y="2301840"/>
            <a:ext cx="7051680" cy="180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38400" y="1625760"/>
            <a:ext cx="7051680" cy="1440"/>
          </a:xfrm>
          <a:prstGeom prst="line">
            <a:avLst/>
          </a:prstGeom>
          <a:ln w="9360">
            <a:solidFill>
              <a:srgbClr val="4b4b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57440" y="4487760"/>
            <a:ext cx="563400" cy="465120"/>
          </a:xfrm>
          <a:prstGeom prst="rect">
            <a:avLst/>
          </a:prstGeom>
          <a:solidFill>
            <a:srgbClr val="33cccc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62160" y="4727520"/>
            <a:ext cx="577800" cy="225360"/>
          </a:xfrm>
          <a:prstGeom prst="rect">
            <a:avLst/>
          </a:prstGeom>
          <a:solidFill>
            <a:srgbClr val="33cccc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81640" y="2301840"/>
            <a:ext cx="561960" cy="2651040"/>
          </a:xfrm>
          <a:prstGeom prst="rect">
            <a:avLst/>
          </a:prstGeom>
          <a:solidFill>
            <a:srgbClr val="33cccc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886360" y="4616280"/>
            <a:ext cx="579600" cy="336600"/>
          </a:xfrm>
          <a:prstGeom prst="rect">
            <a:avLst/>
          </a:prstGeom>
          <a:solidFill>
            <a:srgbClr val="33cccc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05840" y="4470480"/>
            <a:ext cx="563400" cy="482400"/>
          </a:xfrm>
          <a:prstGeom prst="rect">
            <a:avLst/>
          </a:prstGeom>
          <a:solidFill>
            <a:srgbClr val="33cccc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936800" y="4390560"/>
            <a:ext cx="1440" cy="96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92160" y="4390920"/>
            <a:ext cx="109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343320" y="4646160"/>
            <a:ext cx="1440" cy="810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97240" y="4646520"/>
            <a:ext cx="1080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762440" y="1979280"/>
            <a:ext cx="1800" cy="3222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16360" y="1979640"/>
            <a:ext cx="109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168960" y="4537080"/>
            <a:ext cx="1800" cy="792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21440" y="4537080"/>
            <a:ext cx="109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7586640" y="4374720"/>
            <a:ext cx="1440" cy="95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40560" y="4375080"/>
            <a:ext cx="10944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936800" y="4487760"/>
            <a:ext cx="1440" cy="95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92160" y="4583160"/>
            <a:ext cx="109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43320" y="4727520"/>
            <a:ext cx="1440" cy="96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97240" y="4824360"/>
            <a:ext cx="1080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62440" y="2301840"/>
            <a:ext cx="1800" cy="3366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716360" y="2638440"/>
            <a:ext cx="109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68960" y="4616280"/>
            <a:ext cx="1800" cy="795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21440" y="4695840"/>
            <a:ext cx="109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86640" y="4470480"/>
            <a:ext cx="1440" cy="96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40560" y="4567320"/>
            <a:ext cx="109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54240" y="966960"/>
            <a:ext cx="1440" cy="39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73240" y="4952880"/>
            <a:ext cx="65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73240" y="4294080"/>
            <a:ext cx="6516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73240" y="3618000"/>
            <a:ext cx="65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73240" y="2960640"/>
            <a:ext cx="65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73240" y="2301840"/>
            <a:ext cx="65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73240" y="1625760"/>
            <a:ext cx="65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73240" y="965160"/>
            <a:ext cx="651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38400" y="4952880"/>
            <a:ext cx="705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00000" y="4824360"/>
            <a:ext cx="22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0560" y="416556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1120" y="3490920"/>
            <a:ext cx="67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1120" y="2832120"/>
            <a:ext cx="67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1120" y="2171880"/>
            <a:ext cx="67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1120" y="1496880"/>
            <a:ext cx="67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1120" y="838080"/>
            <a:ext cx="67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472040" y="5130720"/>
            <a:ext cx="921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lock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19240" y="5130720"/>
            <a:ext cx="85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lock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329720" y="5130720"/>
            <a:ext cx="9212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lock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(Mix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81600" y="5130720"/>
            <a:ext cx="85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lock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174080" y="5130720"/>
            <a:ext cx="133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Block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6200000">
            <a:off x="-158040" y="2773080"/>
            <a:ext cx="91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-293760" y="5867280"/>
            <a:ext cx="964404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5867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This dramatic increase in Flanker Effect size is 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NOT</a:t>
            </a:r>
            <a:r>
              <a:rPr b="0" lang="en-US" sz="1800" spc="-1" strike="noStrike">
                <a:solidFill>
                  <a:srgbClr val="bbe0e3"/>
                </a:solidFill>
                <a:latin typeface="Arial Rounded MT Bol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due to practice effects.   Note that the Flanker Effect in the Mixed Block is larger than both the blocks before it AND after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7560" y="18284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cc00"/>
                </a:solidFill>
                <a:latin typeface="Arial"/>
              </a:rPr>
              <a:t>Dramatically Larger Flanker Ef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09560" y="3027240"/>
            <a:ext cx="68025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arah Munro, Cecil Chau, Karine Gazarian &amp; Adele Diamo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esented at the Cognitive Neuroscience Society Annual Meeting, San Francisco, CA, April 9, 2006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00120" y="2733840"/>
            <a:ext cx="70581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-732600" y="320760"/>
            <a:ext cx="1793880" cy="610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-731880" y="357120"/>
            <a:ext cx="1463760" cy="489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1c00b"/>
          </a:solidFill>
          <a:ln w="9360">
            <a:solidFill>
              <a:srgbClr val="f1c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5181840" cy="3855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80880" y="431172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Arial Rounded MT Bold"/>
              </a:rPr>
              <a:t>Diamond, A., Barnett, W.S., Thomas, J., &amp; Munro, S. (2007).  Preschool program improves cognitive control, </a:t>
            </a:r>
            <a:r>
              <a:rPr b="0" i="1" lang="en-US" sz="2000" spc="-1" strike="noStrike">
                <a:solidFill>
                  <a:srgbClr val="339966"/>
                </a:solidFill>
                <a:latin typeface="Arial Rounded MT Bold"/>
              </a:rPr>
              <a:t>Science, 318</a:t>
            </a:r>
            <a:r>
              <a:rPr b="0" lang="en-US" sz="2000" spc="-1" strike="noStrike">
                <a:solidFill>
                  <a:srgbClr val="339966"/>
                </a:solidFill>
                <a:latin typeface="Arial Rounded MT Bold"/>
              </a:rPr>
              <a:t>, 387-38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5334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e standard and reverse Flanker conditions were used with 5-year-olds as part of a study to evaluate the efficacy of a preschool intervention that targets Executive Functio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 rot="16200000">
            <a:off x="-1380960" y="2990880"/>
            <a:ext cx="39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Rounded MT Bold"/>
              </a:rPr>
              <a:t>Correct Responses (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40000" y="981000"/>
            <a:ext cx="0" cy="49449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89240" y="5557680"/>
            <a:ext cx="6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389240" y="4794120"/>
            <a:ext cx="6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89240" y="4033800"/>
            <a:ext cx="6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389240" y="3268800"/>
            <a:ext cx="6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89240" y="2506680"/>
            <a:ext cx="6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89240" y="1743120"/>
            <a:ext cx="6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389240" y="981000"/>
            <a:ext cx="6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94680" y="543564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94680" y="467028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94680" y="390996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94680" y="314784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94680" y="238752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94680" y="162252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94680" y="86184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38200" y="968400"/>
            <a:ext cx="1800" cy="4973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1355760" y="5727600"/>
            <a:ext cx="154080" cy="150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47720" y="1562040"/>
            <a:ext cx="366840" cy="4362480"/>
          </a:xfrm>
          <a:prstGeom prst="rect">
            <a:avLst/>
          </a:prstGeom>
          <a:solidFill>
            <a:srgbClr val="ff0066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817560"/>
            <a:ext cx="366840" cy="5092560"/>
          </a:xfrm>
          <a:prstGeom prst="rect">
            <a:avLst/>
          </a:prstGeom>
          <a:solidFill>
            <a:srgbClr val="00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830240" y="1285560"/>
            <a:ext cx="0" cy="27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771560" y="1285920"/>
            <a:ext cx="1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297160" y="685800"/>
            <a:ext cx="0" cy="13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38480" y="685800"/>
            <a:ext cx="10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30240" y="1562040"/>
            <a:ext cx="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71560" y="1819440"/>
            <a:ext cx="1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298600" y="817560"/>
            <a:ext cx="0" cy="147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38480" y="965160"/>
            <a:ext cx="10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79800" y="2857680"/>
            <a:ext cx="366840" cy="3051000"/>
          </a:xfrm>
          <a:prstGeom prst="rect">
            <a:avLst/>
          </a:prstGeom>
          <a:solidFill>
            <a:srgbClr val="ff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435560" y="1389240"/>
            <a:ext cx="365040" cy="4519440"/>
          </a:xfrm>
          <a:prstGeom prst="rect">
            <a:avLst/>
          </a:prstGeom>
          <a:solidFill>
            <a:srgbClr val="00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165560" y="2486160"/>
            <a:ext cx="0" cy="371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110120" y="2486160"/>
            <a:ext cx="10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621320" y="1238040"/>
            <a:ext cx="0" cy="150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565520" y="1238400"/>
            <a:ext cx="10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65560" y="2857680"/>
            <a:ext cx="0" cy="3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110120" y="3230640"/>
            <a:ext cx="10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21320" y="1389240"/>
            <a:ext cx="0" cy="16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65520" y="1554120"/>
            <a:ext cx="10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572840" y="6004080"/>
            <a:ext cx="114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Flan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24040" y="6004080"/>
            <a:ext cx="176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Rev. Flan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22360" y="5919840"/>
            <a:ext cx="36291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410080" y="2006640"/>
            <a:ext cx="3353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hildren in the Tools of the Mind preschool program performed significantly better than children in the District Curriculum on the standard Flanker condition, though the difference was not lar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n the Reverse Flanker condition (which was always presented AFTER the  standard condition), the difference was both significant AND lar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562720" y="762120"/>
            <a:ext cx="152280" cy="152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562720" y="1143000"/>
            <a:ext cx="152280" cy="152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822280" y="668160"/>
            <a:ext cx="19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District Curricu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20480" y="1066680"/>
            <a:ext cx="295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Tools of the Mind Curricu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(TOM targets EF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23:46:53Z</dcterms:created>
  <dc:creator>Sarah Munro</dc:creator>
  <dc:description/>
  <dc:language>en-US</dc:language>
  <cp:lastModifiedBy>Adele Diamond</cp:lastModifiedBy>
  <dcterms:modified xsi:type="dcterms:W3CDTF">2008-01-25T00:02:02Z</dcterms:modified>
  <cp:revision>1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35298645</vt:r8>
  </property>
  <property fmtid="{D5CDD505-2E9C-101B-9397-08002B2CF9AE}" pid="3" name="_AuthorEmail">
    <vt:lpwstr>Adele.Diamond@ubc.ca</vt:lpwstr>
  </property>
  <property fmtid="{D5CDD505-2E9C-101B-9397-08002B2CF9AE}" pid="4" name="_AuthorEmailDisplayName">
    <vt:lpwstr>Adele Diamond</vt:lpwstr>
  </property>
  <property fmtid="{D5CDD505-2E9C-101B-9397-08002B2CF9AE}" pid="5" name="_EmailSubject">
    <vt:lpwstr>Flanker Info slides</vt:lpwstr>
  </property>
</Properties>
</file>