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CFF-E390-4769-B3CC-18652887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CF8-D070-46A6-952D-D455826C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63A-28A8-45D7-B189-63FDD7CF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1C8-AE8E-4AC2-B275-BDFB26F7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4B1-17EC-4E2F-9CA6-743C3CA8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6B3-55EE-4C0E-8B16-6419F18A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4AC-2EDF-4DD5-A5F4-30C2871E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C1B-201B-4DCE-A7D0-6F6E1324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AE9-1516-40D7-BC83-246A9AD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534-A084-408A-8894-72F1F683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C2F-90AC-491B-A069-4480383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799-344A-4858-9F2C-5F9B33A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7D0-5304-4448-9CE9-FAC6156E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7880" y="5335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is game you are going to see lots of FISH like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1430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912960" y="2590920"/>
            <a:ext cx="731664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43000" y="41911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job is feed the HUNGRY F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61320" y="65530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Press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3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286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8839080" y="-4572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457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45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17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4600" y="5335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CE! When the fish ar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INK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ngry fish are on the OUT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feed the OUTSIDE fish by pressing where they’re fa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the OUTSIDE fish are facing this way, so you press the RIGHT butt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924680" y="5638680"/>
            <a:ext cx="1219320" cy="12193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876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play with jus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h.  Feed the fish on the OUTSIDE by pressing where they’re f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2960" y="2666880"/>
            <a:ext cx="731664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0800000">
            <a:off x="3581280" y="3886200"/>
            <a:ext cx="1981440" cy="9144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57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7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47880" y="533520"/>
            <a:ext cx="72388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fish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ungry fish is in the MIDD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feed the MIDDLE fish by pressing where he’s fa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re the MIDDLE fish is facing this way, so you press the LEFT butt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9000" y="3886200"/>
            <a:ext cx="1981080" cy="914400"/>
          </a:xfrm>
          <a:prstGeom prst="leftArrow">
            <a:avLst>
              <a:gd name="adj1" fmla="val 50000"/>
              <a:gd name="adj2" fmla="val 5416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38680"/>
            <a:ext cx="1219320" cy="12193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87692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play with just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sh.  Feed the fish in the MIDDLE by pressing where he’s f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9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04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65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8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6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93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3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74600" y="533520"/>
            <a:ext cx="8763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CE! Now let’s play with BOTH colors.  REMEMB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feed the MIDDLE 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IN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ans feed the OUTSIDE fis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05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09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17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738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29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04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65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8839080" y="-45720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457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41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176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53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9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6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38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77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9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52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097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89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17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8839080" y="-533520"/>
          <a:ext cx="304920" cy="30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-53352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6" dur="indefinite" restart="never" nodeType="tmRoot">
          <p:childTnLst>
            <p:seq>
              <p:cTn id="19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01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304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652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213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2286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67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8839080" y="0"/>
          <a:ext cx="1800" cy="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839080" y="0"/>
                    <a:ext cx="1800" cy="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cmd type="call" cmd="">
                                      <p:cBhvr>
                                        <p:cTn id="1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2960" y="2743200"/>
            <a:ext cx="731664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52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7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2:17:32Z</dcterms:created>
  <dc:creator>Sarah Munro</dc:creator>
  <dc:description/>
  <dc:language>en-US</dc:language>
  <cp:lastModifiedBy>Sarah Munro</cp:lastModifiedBy>
  <dcterms:modified xsi:type="dcterms:W3CDTF">2008-01-24T22:32:24Z</dcterms:modified>
  <cp:revision>23</cp:revision>
  <dc:subject/>
  <dc:title>Slide 1</dc:title>
</cp:coreProperties>
</file>